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8C1-6798-41D2-B950-A6660483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B96-9EEF-4B0B-BAAA-326208B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25C-3355-466F-B1F7-94ABA672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C9E-6E9C-4FCF-A0AB-7BA5E59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151-F264-41BB-B6AD-9C31C35F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F44-C2EE-49A9-92D0-17D5ED5C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6D0-659F-4373-A38E-C0DF8724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713-6A86-4ECE-B692-27504A2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34C-D203-47FA-881D-F78A1236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E2E-D742-4622-8310-ACC74FE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5C6-82F2-45C1-ADD6-DB820DB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4ED-A275-4231-86C9-9928733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229-F3D8-463A-8CDA-E7E6562C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risten ITC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By: Avery Barbera, Chandler Barbera,  and Kaeli Otto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MP900437185[1]"/>
          <p:cNvPicPr/>
          <p:nvPr/>
        </p:nvPicPr>
        <p:blipFill>
          <a:blip r:embed="rId1"/>
          <a:stretch/>
        </p:blipFill>
        <p:spPr>
          <a:xfrm>
            <a:off x="228600" y="228600"/>
            <a:ext cx="2060640" cy="20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MP900182772[1]"/>
          <p:cNvPicPr/>
          <p:nvPr/>
        </p:nvPicPr>
        <p:blipFill>
          <a:blip r:embed="rId2"/>
          <a:stretch/>
        </p:blipFill>
        <p:spPr>
          <a:xfrm>
            <a:off x="6400800" y="3808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MC900434411[1]"/>
          <p:cNvPicPr/>
          <p:nvPr/>
        </p:nvPicPr>
        <p:blipFill>
          <a:blip r:embed="rId3"/>
          <a:stretch/>
        </p:blipFill>
        <p:spPr>
          <a:xfrm>
            <a:off x="4038480" y="3276720"/>
            <a:ext cx="9478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6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6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Mass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ff0"/>
            </a:gs>
            <a:gs pos="100000">
              <a:srgbClr val="ff07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 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hart 4" descr=""/>
          <p:cNvPicPr/>
          <p:nvPr/>
        </p:nvPicPr>
        <p:blipFill>
          <a:blip r:embed="rId1"/>
          <a:stretch/>
        </p:blipFill>
        <p:spPr>
          <a:xfrm>
            <a:off x="225360" y="1023840"/>
            <a:ext cx="858384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6cd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eter 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298440" y="102384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Moons Grap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3" descr=""/>
          <p:cNvPicPr/>
          <p:nvPr/>
        </p:nvPicPr>
        <p:blipFill>
          <a:blip r:embed="rId1"/>
          <a:stretch/>
        </p:blipFill>
        <p:spPr>
          <a:xfrm>
            <a:off x="298440" y="90792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Moons 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4" descr=""/>
          <p:cNvPicPr/>
          <p:nvPr/>
        </p:nvPicPr>
        <p:blipFill>
          <a:blip r:embed="rId1"/>
          <a:stretch/>
        </p:blipFill>
        <p:spPr>
          <a:xfrm>
            <a:off x="378000" y="907920"/>
            <a:ext cx="85834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think planets should be called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28800" y="1905120"/>
          <a:ext cx="5943600" cy="3244680"/>
        </p:xfrm>
        <a:graphic>
          <a:graphicData uri="http://schemas.openxmlformats.org/drawingml/2006/table">
            <a:tbl>
              <a:tblPr/>
              <a:tblGrid>
                <a:gridCol w="2538360"/>
                <a:gridCol w="1703520"/>
                <a:gridCol w="1701720"/>
              </a:tblGrid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ature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Giant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Plan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or equal to 2,500 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0,000 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pi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um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ma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t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5"/>
          <p:cNvSpPr/>
          <p:nvPr/>
        </p:nvSpPr>
        <p:spPr>
          <a:xfrm>
            <a:off x="1298520" y="1571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here, that uses gravity to stay up. It is not a planet if it is has a mass less than or equal to 0.0020. It has to orbit the sun in less than 100 Earth years or it is not a planet and it is considered a dwarf planet if it is less than or equal to 2,500 kilometers in diameter. If it is more than 20,000 kilometers it is considered to be a giant or supergiant planet. It is not considered a planet if its’ AU is less than 0.8 or greater than 40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bital Period (Earth Yrs) Graph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371600"/>
          <a:ext cx="7772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bital Period (Earth Yrs) Graph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Sun (AU) Graph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371600"/>
          <a:ext cx="76964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6964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Sun (AU) Graph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371600"/>
          <a:ext cx="79246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924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Gravit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1295280"/>
          <a:ext cx="7696440" cy="52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96440" cy="5261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Gravit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Mass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1600200"/>
          <a:ext cx="75438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43800" cy="464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2:26:44Z</dcterms:created>
  <dc:creator>ASD</dc:creator>
  <dc:description/>
  <dc:language>en-US</dc:language>
  <cp:lastModifiedBy>Abbey Barbera</cp:lastModifiedBy>
  <dcterms:modified xsi:type="dcterms:W3CDTF">2011-02-16T00:00:18Z</dcterms:modified>
  <cp:revision>12</cp:revision>
  <dc:subject/>
  <dc:title>What is a Planet?</dc:title>
</cp:coreProperties>
</file>